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ftr" idx="31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1A50-27A7-4E6C-A15E-AF57A1B9E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93D-938A-44CD-B836-717EC7150E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30C6-44BC-4D56-8F96-430E274FD8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212-642B-41A5-BB32-F540940CCF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1DEF-8EAF-4CB5-88F0-48D3ADD698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48D5-1D54-411F-8F62-57D7105598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C5F9-67E9-4E00-9768-3D7F1FE1D8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4EB1-8860-479C-B752-44FDF5C790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84B-CB36-4AB7-87EA-9A7E714253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6431-D121-4EC0-A9F6-586479A6DA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3F5-1234-41A1-83E2-351C011B66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0B5-0FA7-4D22-8862-3E35562F28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D79-EB8E-4CB6-9C0A-F07DA0DB3A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4007-6ECB-43C9-8580-F1F6DC7052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50C-A3E6-40B7-9C90-A1A99EC5C9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884C-6E3B-44B0-A9E4-0D979FFF75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A003-5835-419B-8DFC-279A0FAA54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FD60-9A03-478F-BA6A-49FAEE377F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DE64-3B4C-4FC8-9F71-2F254B0F4E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6638-2EFD-426E-AF74-850C96D558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4A91-28A9-4D82-A6BF-E5F06BAB73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6EAF-DA38-4632-A9D2-1A38F5FA98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9ADA-2A78-4920-B8F0-7BBE813E4C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F668-A3C8-4E03-A219-8F45275050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BDD-DB54-49B9-A16F-A801DE5686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36D9-9B07-4340-AD61-0F8D352A4D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18DC-A03D-4885-A134-F0FB9CB3B2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440-D3C9-406D-87DF-8FFB7A42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1CC-80FA-41A2-8F6C-DA0BD69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BD1F5-011B-4B5C-AA42-44BE952B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3C8B4-42F0-46E7-B266-6C229B8A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595EB-0E5D-40FB-AB04-E5A03568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43C8B-DC4C-4464-A019-C705ED5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641DC-B1A8-4030-BECF-87846D6A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2C2EF-BC17-469C-9B1F-14DB927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FA257-B3DE-4A19-B858-ACBB013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25156-A236-4000-9E01-92EC04AB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91CE1-AA76-445F-87AD-972BE7BC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9A5D-5758-4B5D-A5A7-708F7F076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F91-85E8-45D5-B2D4-EAC1DFC5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BB8B1-F61E-4350-8DFC-3107F0C3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E0562-1B14-43F2-8E10-63CA8D81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62539-FEF0-471E-A663-0321E44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6FAE2-307C-4D4C-B2D3-8015355C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23444-254E-41C7-9F2B-51BB1374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03A6D-33DA-49AC-9BDE-097C4B76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948BE-9B36-4CE7-AFD1-E850D410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A8440-E67F-44C6-BE21-4E0B850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DD531-175E-4968-BD40-33A0ADDD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2B571-900A-4B9C-85F2-BDA2050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687-77CE-4A67-9AD9-C4A310F6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A5710-2310-41CD-9CFB-A9E383579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F0E22B-F483-4700-9EC1-72B027F139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A11403-7D89-4DAF-8E89-949F682A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268360-656B-4D7E-A692-DBA037D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A62204-28F0-4E75-AC32-7636542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F3835F-48E1-4E15-ADF4-9A254D96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1859AE-7080-4EF3-8BF0-9D314DC4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7FBEA6-E0B6-4B75-858A-E1434974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40C1D3-F174-41DC-82CE-E79B708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5448C6-B4F6-4F69-9BFB-29A8C117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17ADB6-DF47-4AEA-840D-570DD6AF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763AA3-E478-4D33-B51B-B89B619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A0B58-C6AA-406F-80C5-8BC363365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F28-12D9-4F22-B54D-F40D0DA6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D86-958C-40BC-BE6D-CD334146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A3D1F-703F-4804-87B2-9FEB2BA0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53031-33EE-4505-B0FF-8243BC83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7A9F5-57EF-4AF5-BC15-1BA03F89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915-13F2-4E59-BE49-346B783B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F4489-EFEE-4B7D-BF03-36AF3A78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37355-CA3E-4858-83D5-FB19D9B1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CF191-EA96-4759-B554-A35225AD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8C575-2EDE-40B3-9A04-421117F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E78AA-CB04-41F2-BD7D-EA0B53DF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523E4-3CD6-4969-90D3-6457B09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CC465-95E4-4B50-8CA3-B2936808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1500F-8507-4BEF-96BD-C97A8382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D5A78-1153-4C0F-841C-79C63823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F806B2-8289-4061-A4DB-DF9C151F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60A-BA03-456C-A4B7-D3D3516C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6A45D-0CD9-4FAB-A499-7C27880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0DE452-AF60-4B9E-9603-E28544C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D3E64-6DED-4D1D-BD4F-A90B0893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35721-E69E-4C51-B3AE-D8E0BFED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4371B-CAFA-4034-8869-C1D466C4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F031EE-B00C-444A-AB72-760FB151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8ED68-8FEF-4B96-AAEE-104C380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698C27-105D-4452-8D44-1A268578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D4187-4E17-4EEC-8178-ECE94D08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C52433-07C2-495C-BB16-5639EA65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1D4-9957-4FC4-873B-C1DB5C15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8D032-BE0D-4B9B-92AB-5625A937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3C1CA9-4566-4E72-AA32-C743077E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3E4FD-EFF3-496E-A799-D958F5C6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99812-E9A4-4B9E-B326-81C02C2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ADAEB-13E1-4B81-9ED2-050152E7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3E530-6AA0-4B7B-8170-DD2395E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89868-FDB7-489F-A5A0-9E1334CE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0F0878-C5AC-45F3-8DC5-5B0C9E1A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E32829-4260-43F3-8F72-E52F2F6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88E1A-6A7A-4FF3-A3E1-D3476A6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81F-3CE9-4F1F-907B-E8189F2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3D16B-D103-4F38-A706-6B278D22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95F8AF-109E-4D1C-9BDD-E9395C70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B47104-04BC-48D1-A10F-9DC50619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EA11D7-3DA2-45DE-BD13-DD5E5AFF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E11F83-4403-44DC-BAC5-1FC25417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30CFD6-28E4-42F0-8BFF-D101275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7AE658-CE1E-4C44-ABB9-FD5216B6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8E59AD-EB8E-4D93-AD5C-5484C41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F8ABFE-C453-4449-9898-56DB187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3189C3-F907-4625-82B9-463C7DC3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88B-CAF1-4875-B7D2-092C0225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5B721-CBF5-42DF-8F5C-933DE9AE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9F6EF0-0DD1-40E8-8B6D-5B04A8F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57627B-C84B-4DA6-A45A-455D992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E6727E-9BEE-4605-AD7D-9EC9E049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7F6A59-14CE-467F-8952-669D1298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AC390-24D3-4B62-8145-FFB48A13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FA490D-01A8-4F3E-B609-46A4AE49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BCF885-DAD7-44BA-A2E5-5FE2FE4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881508-B46C-4690-B2C4-795EA8B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A060D8-B72D-43BD-95C9-A43A8020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899-5E60-4403-A799-5AE47AC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782435-E727-44D8-988C-10FF1346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02153-7A3E-4017-BA82-976B6966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B6DE57-01C1-4E91-BABD-1A3171B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85FFCA-EE18-4B1A-B47B-AAAB2577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C65920-EEBA-4360-8906-8FC6563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746F4-E71B-44A0-85FF-4E9542D8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34A1C3-C3FF-4462-9980-2C16E155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E230D-46ED-443C-B4B7-D8A72DD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BDF99-339B-4F1B-A8B5-259A0FCA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9DF82-2C6E-4692-9643-D8633A97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F546-210F-46FD-96EA-C107A9F4E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050-0DDB-4C74-9AB9-8CC8A70B6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BDC-5748-48A1-BAE8-D61F763BA3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5D5-5A28-478D-8D35-4DA4DAC5B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0991-CE8D-4141-B388-DAAA5FC357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F40-0F3F-4D82-BB95-6E72E6525C9A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10DD-1CE4-48C9-8634-3A5698BE2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6FE6-CF89-4E74-A086-30D3B8505332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686-936E-4D67-83D4-676E54C59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94431"/>
                </a:solidFill>
                <a:latin typeface="Comic Sans MS"/>
              </a:rPr>
              <a:t>Evolution</a:t>
            </a:r>
            <a:endParaRPr b="0" lang="en-US" sz="8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5238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Diversity of Lif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7F14-4646-41B1-91DD-860190B3E21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Common Descent with Modification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arwin proposed that organisms descended from common ances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ea that organisms change with time, diverging from a common for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uses the evolution of new speci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8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5A89-30AF-46E9-8EE8-5CB5C86FCD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9" name="Picture 7" descr="http://www.tokresource.org/tok_classes/biobiobio/biomenu/options_folder/D2_speciation/gradualism_better.gif"/>
          <p:cNvPicPr/>
          <p:nvPr/>
        </p:nvPicPr>
        <p:blipFill>
          <a:blip r:embed="rId1"/>
          <a:stretch/>
        </p:blipFill>
        <p:spPr>
          <a:xfrm>
            <a:off x="5029200" y="2362320"/>
            <a:ext cx="38098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riving force for ev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uring the struggle for resources, the fittest survive &amp; reprodu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ea that at least some of the differences between individuals, which impact their survival and fertility, are inheritab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D381-8D7E-4845-862E-B31332ED3B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175248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7DD-7E63-4A5B-B585-09BC1F948EC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5" name="Picture 3" descr="C:\Users\Alex\Desktop\Batch 4\Art\Art 3_18_09+\BIO10NAE_05_16_04_005_LRIM_04.png"/>
          <p:cNvPicPr/>
          <p:nvPr/>
        </p:nvPicPr>
        <p:blipFill>
          <a:blip r:embed="rId1"/>
          <a:stretch/>
        </p:blipFill>
        <p:spPr>
          <a:xfrm>
            <a:off x="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C:\Users\Alex\Desktop\Batch 4\Art\Art 3_18_09+\BIO10NAE_05_16_04_005_LRIM_05.png"/>
          <p:cNvPicPr/>
          <p:nvPr/>
        </p:nvPicPr>
        <p:blipFill>
          <a:blip r:embed="rId2"/>
          <a:stretch/>
        </p:blipFill>
        <p:spPr>
          <a:xfrm>
            <a:off x="2209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C:\Users\Alex\Desktop\Batch 4\Art\Art 3_18_09+\BIO10NAE_05_16_04_005_LRIM_06.png"/>
          <p:cNvPicPr/>
          <p:nvPr/>
        </p:nvPicPr>
        <p:blipFill>
          <a:blip r:embed="rId3"/>
          <a:stretch/>
        </p:blipFill>
        <p:spPr>
          <a:xfrm>
            <a:off x="4495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Users\Alex\Desktop\Batch 4\Art\Art 3_18_09+\BIO10NAE_05_16_04_005_LRIM_07.png"/>
          <p:cNvPicPr/>
          <p:nvPr/>
        </p:nvPicPr>
        <p:blipFill>
          <a:blip r:embed="rId4"/>
          <a:stretch/>
        </p:blipFill>
        <p:spPr>
          <a:xfrm>
            <a:off x="6780240" y="1905120"/>
            <a:ext cx="2363760" cy="27432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E145-192F-484C-8E30-50B3FF45F23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1" name="Picture 3" descr="C:\Users\Alex\Desktop\Batch 4\Art\Art 3_18_09+\BIO10NAE_05_16_04_005_LRIM_04.p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46864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306B-EBC0-4461-9862-8B2AFEE6F99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4" name="Picture 2" descr="C:\Users\Alex\Desktop\Batch 4\Art\Art 3_18_09+\BIO10NAE_05_16_04_005_LRIM_05.png"/>
          <p:cNvPicPr/>
          <p:nvPr/>
        </p:nvPicPr>
        <p:blipFill>
          <a:blip r:embed="rId1"/>
          <a:stretch/>
        </p:blipFill>
        <p:spPr>
          <a:xfrm>
            <a:off x="2438280" y="1828800"/>
            <a:ext cx="4191120" cy="48639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6AAD-A09C-404B-A772-A8E83D6C5C3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7" name="Picture 2" descr="C:\Users\Alex\Desktop\Batch 4\Art\Art 3_18_09+\BIO10NAE_05_16_04_005_LRIM_06.png"/>
          <p:cNvPicPr/>
          <p:nvPr/>
        </p:nvPicPr>
        <p:blipFill>
          <a:blip r:embed="rId1"/>
          <a:stretch/>
        </p:blipFill>
        <p:spPr>
          <a:xfrm>
            <a:off x="2666880" y="1905120"/>
            <a:ext cx="3886200" cy="45100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C28C-63B0-47DC-8313-44474B94EA0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0" name="Picture 2" descr="C:\Users\Alex\Desktop\Batch 4\Art\Art 3_18_09+\BIO10NAE_05_16_04_005_LRIM_07.png"/>
          <p:cNvPicPr/>
          <p:nvPr/>
        </p:nvPicPr>
        <p:blipFill>
          <a:blip r:embed="rId1"/>
          <a:stretch/>
        </p:blipFill>
        <p:spPr>
          <a:xfrm>
            <a:off x="2743200" y="1828800"/>
            <a:ext cx="4005360" cy="46483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06A-473B-4B53-9D7B-114C7087015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3" name="Picture 3" descr="C:\Users\Alex\Desktop\Batch 4\Art\Art 3_18_09+\BIO10NAE_05_16_04_005_LRIM_04.png"/>
          <p:cNvPicPr/>
          <p:nvPr/>
        </p:nvPicPr>
        <p:blipFill>
          <a:blip r:embed="rId1"/>
          <a:stretch/>
        </p:blipFill>
        <p:spPr>
          <a:xfrm>
            <a:off x="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Users\Alex\Desktop\Batch 4\Art\Art 3_18_09+\BIO10NAE_05_16_04_005_LRIM_05.png"/>
          <p:cNvPicPr/>
          <p:nvPr/>
        </p:nvPicPr>
        <p:blipFill>
          <a:blip r:embed="rId2"/>
          <a:stretch/>
        </p:blipFill>
        <p:spPr>
          <a:xfrm>
            <a:off x="2209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" descr="C:\Users\Alex\Desktop\Batch 4\Art\Art 3_18_09+\BIO10NAE_05_16_04_005_LRIM_06.png"/>
          <p:cNvPicPr/>
          <p:nvPr/>
        </p:nvPicPr>
        <p:blipFill>
          <a:blip r:embed="rId3"/>
          <a:stretch/>
        </p:blipFill>
        <p:spPr>
          <a:xfrm>
            <a:off x="4495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:\Users\Alex\Desktop\Batch 4\Art\Art 3_18_09+\BIO10NAE_05_16_04_005_LRIM_07.png"/>
          <p:cNvPicPr/>
          <p:nvPr/>
        </p:nvPicPr>
        <p:blipFill>
          <a:blip r:embed="rId4"/>
          <a:stretch/>
        </p:blipFill>
        <p:spPr>
          <a:xfrm>
            <a:off x="6780240" y="1905120"/>
            <a:ext cx="2363760" cy="27432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0880" y="2070000"/>
            <a:ext cx="8382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pon his return to England, Darwin developed his observations into the Theory of Evol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ut he didn’t publish for 25 Year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do you think he waited so long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298-69E3-4E50-8C53-A56BCBAFF7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“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rwin knew that his theory would be extremely controversial and would be attack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is theory challenged established religious &amp; scientific beliefs, particularly about the creation of ma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30C-F174-4EF3-A422-7E83B1553A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4DBB-0753-45C9-A18D-FB44FFBF72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533520" y="838080"/>
            <a:ext cx="38098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83500"/>
                </a:solidFill>
                <a:latin typeface="Comic Sans MS"/>
              </a:rPr>
              <a:t>Nothing in biology makes sense EXCEPT in the light of evolution.</a:t>
            </a: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”</a:t>
            </a:r>
            <a:r>
              <a:rPr b="1" lang="en-US" sz="3600" spc="-1" strike="noStrike">
                <a:solidFill>
                  <a:srgbClr val="f835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83500"/>
                </a:solidFill>
                <a:latin typeface="Comic Sans MS"/>
              </a:rPr>
              <a:t>Theodosius Dobzhans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623040" y="1522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g2"/>
          <p:cNvPicPr/>
          <p:nvPr/>
        </p:nvPicPr>
        <p:blipFill>
          <a:blip r:embed="rId1"/>
          <a:srcRect l="15154" t="4224" r="12126" b="20226"/>
          <a:stretch/>
        </p:blipFill>
        <p:spPr>
          <a:xfrm>
            <a:off x="4572000" y="76212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4093200" y="617220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arles Darwin in later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“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6477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 refused to publish until he received an essay from Alfred Walla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ellow natura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ependently developed the same theory as Darw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fter 25 years, someone else had come to the same conclusions from their observations of na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16" name="Picture 4" descr="wallace"/>
          <p:cNvPicPr/>
          <p:nvPr/>
        </p:nvPicPr>
        <p:blipFill>
          <a:blip r:embed="rId1"/>
          <a:stretch/>
        </p:blipFill>
        <p:spPr>
          <a:xfrm>
            <a:off x="6534000" y="1600200"/>
            <a:ext cx="2394000" cy="320040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BDAE-1916-4189-971E-20AB38B796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Wallace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  <a:ea typeface="MS Mincho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s Contrib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ependently came to same conclusion as Darwin that species changed over time because of their struggle for exis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en Darwin read Wal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 essay, he knew he had to publish his findin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rcRect l="0" t="8999" r="0" b="8999"/>
          <a:stretch/>
        </p:blipFill>
        <p:spPr>
          <a:xfrm>
            <a:off x="6483240" y="2286000"/>
            <a:ext cx="2346480" cy="2743200"/>
          </a:xfrm>
          <a:prstGeom prst="rect">
            <a:avLst/>
          </a:prstGeom>
          <a:ln w="0">
            <a:noFill/>
          </a:ln>
        </p:spPr>
      </p:pic>
      <p:sp>
        <p:nvSpPr>
          <p:cNvPr id="521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C1FF-5F6A-43E8-9BEB-861164A468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“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arwin Presented Wal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 Essay &amp; Some Of His Work At A Scientific Conference of the Linnaean Society in July of 185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n he finished his book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igin of Spec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took Darwin 18 months to complete the b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1793-AE33-4F7B-8F79-259C393490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Natural Variation and Artificial Selection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bandoned the idea that species were perfect &amp; unchang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bserved significant variation in all spe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3A2C-6370-4CEF-B08D-AA26F9E0B9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Evolution By Natural Selection Concepts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truggle for Existence (compete for food, mates, space, water, etc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rvival of the Fittest (best adapted are able to survive and reproduc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scent with Modification (new species arise from common ancestor replacing less fit specie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0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1F9E-359E-4657-8472-E09822C61A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Survival of the Fitt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tnes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bility of an individual to survive &amp; reprodu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daptation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herited characteristic that increases an organism’s chance for surviv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69AA-CCDC-4DBA-B83C-1DA24563E0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Survival of the Fitt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aptations Can Be: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ysica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ed, Camouflage, Claws, Quills, etc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haviora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itary, Herds, Packs, Activity, etc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4E8-893E-4740-AA8A-6FD583BDE3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What role does nature play in artificial selection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How did Charles Darwin apply  Malthus’ idea to nature?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 your own words describe what the term adaptive radiation means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What is meant by the term struggle for existance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istinguish between the terms fitness and adaptation. How are these terms related to each other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A female frog lays hundreds of eggs when it reproduces. Will all of these eggs develop into mature frogs? Explain your answer.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Daily Objectiv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escribe the conditions under which natural selection occurs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plain the principle of common descent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4:19:25Z</dcterms:created>
  <dc:creator>Cheryl Massengale</dc:creator>
  <dc:description/>
  <dc:language>en-US</dc:language>
  <cp:lastModifiedBy>dzahm</cp:lastModifiedBy>
  <dcterms:modified xsi:type="dcterms:W3CDTF">2013-10-25T14:44:13Z</dcterms:modified>
  <cp:revision>180</cp:revision>
  <dc:subject/>
  <dc:title>15-1 The Puzzle of Life’s Diversity</dc:title>
</cp:coreProperties>
</file>